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866-94C5-4CA1-A04A-447C0A90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8A2-92DA-42EB-B1B7-9E7BFCB8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A22-945D-4301-9FF7-B5006074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42A-08C3-4D9E-BFF2-CED4EC07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7141-03ED-4F5E-A1C5-FB568E61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5E7C-AC02-4D23-BB38-114725F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C3C5-D4FA-4F54-AD8E-BDB05068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67B0-22FA-4403-B568-72494592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E62B-2115-43AC-B19B-D4016425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E77-532D-4709-B5B2-F57D15A7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BD4C-5064-4746-BB01-D04617D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4B7-5BD4-42C5-8D7D-3BD2A767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045-2EAB-4DD6-AD5E-D84ED65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447-CFB5-47E5-9D60-8A96837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789F-310B-40BB-A6AB-48F940F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6C6A-590E-4101-8F6E-F461888A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F05-D00E-452F-8CDB-0A6132E8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4DB-6193-4142-86E2-A16F049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A4F-E716-4BA6-9196-BD967523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E9B-92C5-4B2A-AD65-8A7A08BA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3BF-DC21-41C9-B300-14FFD80B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B4B-2052-4584-9EF6-4E396BA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11F-2CFA-4ADD-ACD4-5D24B9EF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5E8-8954-446A-BE91-416AFA9A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F282-557C-4EA9-B7C2-B7A174CF8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7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7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7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7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36A-68D2-42B6-95EC-9F82F4010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 Introduc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Bureauc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of executive branc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arries out the law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orkers hired, not appoint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od/Drug Administration, Department of Transportation, etc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Minute Quick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do you think is important to remember about the executive branch of the govern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 to write, then 1 minute to share with a neighbo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sees/interprets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ederal &amp; state criminal courts try people charged with violating federal &amp; state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upreme Court &amp; district courts hear cases based on constitutionality of laws &amp; executive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ointed by President with 2/3 Senate approva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rve for life (except resignation or impeachment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ually follow preced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 power of enforc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Minute Quick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do you think is important to remember about the judicial branch of the govern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 to write, then 1 minute to share with a neighbo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kes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gress: House (population, 2 years) &amp; Senate (2 per state, 6 year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jority of both houses to pass a bill, 2/3 of both houses to override a vet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 of Represent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47560" y="1294920"/>
            <a:ext cx="749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jority ru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peaker of the Hou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responsive to peop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2-year terms, districts within stat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venue bills must start in Hou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apportion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ensus recreates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rrymandering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eachment: bring charg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work happens in committe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Representative: Leonard Boswell (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Content Placeholder 3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liberative body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6-year overlapping ter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ilibuster instead of majority ru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eachment: indict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dvice and cons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2/3 approval for nominees, trea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work happens in committe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enators: Charles Grassley (R) and Tom Harkin (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Content Placeholder 1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174" name="Content Placeholder 14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Minute Quick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rite 1 similarity and 1 difference between the House of Representatives and the Senat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arries out law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esident, Vice President, Cabinet Departments, Bureaucrac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esident &amp; Vice President elected 4-year terms, cabinet/bureaucracy appointed/hired for term/lif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rack Obama, President; Joe Biden, Vice Presid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of 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ESIDENT/V.P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ead of stat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hief executiv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hief legislato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conomic plann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rty lead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hief diploma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mander-in-chief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1468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ABINET DEPT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ttorney Gener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fens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reasur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duc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using &amp; Urban Develop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ealth &amp; Human Servic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16:37Z</dcterms:created>
  <dc:creator>L-Net</dc:creator>
  <dc:description/>
  <dc:language>en-US</dc:language>
  <cp:lastModifiedBy>Danielson, Jason</cp:lastModifiedBy>
  <dcterms:modified xsi:type="dcterms:W3CDTF">2011-10-03T16:03:12Z</dcterms:modified>
  <cp:revision>14</cp:revision>
  <dc:subject/>
  <dc:title>Branches of Government</dc:title>
</cp:coreProperties>
</file>